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1BC1-19E5-4654-89AC-CE03E3B87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5F0E-C7A2-4740-AF1D-51C37BE86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A3C3-51E2-4F09-BE99-D3E0691E6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E14B-CF34-40D8-AF5B-879A7F323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D467-FCD1-4766-A1CC-1D93FEF24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2C6C-25A0-4534-9BEE-34AE95CA3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5F7A-F726-44D1-B6A5-6E0EDC7FF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5C59-DF94-43A6-8C84-ABF0D2B6D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5FFC-E6C1-447B-BB75-A69E1F1B9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6CAE-C0E8-4B5B-86B0-C7559CEC6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BDDD1-7A65-403E-80D5-789EDA5FB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FC51D-5C5B-416A-A6A3-1A614CE3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13BDF-BEF0-4B4B-81D4-649953DB0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66BE8-1138-4A24-9DA7-D43328F14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388FD-7398-49F5-9219-7D9083CD8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C308C-5A51-4E64-880A-56CF2B91F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2A878-3D24-4657-99AE-7080C8BF0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D21E9-D30B-46CE-A2ED-C762BBE85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3108A-93C0-4026-9854-F08E79223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19CEC-93AA-4156-8C52-552A8094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DA127-DEAB-42C6-A1A5-C127CD57D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520B8-420F-4B0B-BDB7-856DE52E7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80318-CDCD-4588-8192-D422D10CB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6C05D-FB9B-4DB9-A2EA-6B42559A2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1D436-1313-47DF-91E6-CDF7509FE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B889F-EA05-422A-8EA8-712DD8F42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E16B0-6D54-4728-B6C6-3CC1831F0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933A-2747-4FF4-BE36-224DE26DE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80EDA-09B5-44D6-8285-361C893B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06F81-36BC-448D-AA18-47A533692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025A-0864-4288-9D88-97AAC602A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2E738-C385-4E8F-AB58-8CD05F56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FFC5-2C65-42A5-9B67-95F65F37A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35F7C-43BB-492D-BDE8-ABE88AAC9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05120"/>
            <a:ext cx="380880" cy="4952880"/>
          </a:xfrm>
          <a:prstGeom prst="rtTriangle">
            <a:avLst/>
          </a:prstGeom>
          <a:gradFill rotWithShape="0">
            <a:gsLst>
              <a:gs pos="0">
                <a:srgbClr val="b3d1f0"/>
              </a:gs>
              <a:gs pos="50000">
                <a:srgbClr val="fefefe"/>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8686080" y="1905120"/>
            <a:ext cx="453960" cy="4952880"/>
          </a:xfrm>
          <a:prstGeom prst="rtTriangle">
            <a:avLst/>
          </a:prstGeom>
          <a:gradFill rotWithShape="0">
            <a:gsLst>
              <a:gs pos="0">
                <a:srgbClr val="b3d1f0"/>
              </a:gs>
              <a:gs pos="50000">
                <a:srgbClr val="fefefe"/>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4B05-8291-47DF-B286-90CBAF3196EC}"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0" y="0"/>
            <a:ext cx="9144000" cy="1752480"/>
            <a:chOff x="0" y="0"/>
            <a:chExt cx="9144000" cy="1752480"/>
          </a:xfrm>
        </p:grpSpPr>
        <p:grpSp>
          <p:nvGrpSpPr>
            <p:cNvPr id="6" name=""/>
            <p:cNvGrpSpPr/>
            <p:nvPr/>
          </p:nvGrpSpPr>
          <p:grpSpPr>
            <a:xfrm>
              <a:off x="6480" y="1219320"/>
              <a:ext cx="9137520" cy="380160"/>
              <a:chOff x="6480" y="1219320"/>
              <a:chExt cx="9137520" cy="380160"/>
            </a:xfrm>
          </p:grpSpPr>
          <p:sp>
            <p:nvSpPr>
              <p:cNvPr id="7" name=""/>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Arial"/>
                </a:endParaRPr>
              </a:p>
            </p:txBody>
          </p:sp>
          <p:sp>
            <p:nvSpPr>
              <p:cNvPr id="8" name=""/>
              <p:cNvSpPr/>
              <p:nvPr/>
            </p:nvSpPr>
            <p:spPr>
              <a:xfrm>
                <a:off x="6480" y="1334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480" y="1219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 name=""/>
              <p:cNvSpPr/>
              <p:nvPr/>
            </p:nvSpPr>
            <p:spPr>
              <a:xfrm flipV="1">
                <a:off x="6480" y="1554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12" name=""/>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3240" y="1600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FC21-A970-4B85-966F-B1EE141C4A22}"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grpSp>
        <p:nvGrpSpPr>
          <p:cNvPr id="56" name=""/>
          <p:cNvGrpSpPr/>
          <p:nvPr/>
        </p:nvGrpSpPr>
        <p:grpSpPr>
          <a:xfrm>
            <a:off x="0" y="0"/>
            <a:ext cx="9144000" cy="4038480"/>
            <a:chOff x="0" y="0"/>
            <a:chExt cx="9144000" cy="4038480"/>
          </a:xfrm>
        </p:grpSpPr>
        <p:sp>
          <p:nvSpPr>
            <p:cNvPr id="57" name=""/>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0" y="3505320"/>
              <a:ext cx="9137520" cy="380160"/>
              <a:chOff x="0" y="3505320"/>
              <a:chExt cx="9137520" cy="380160"/>
            </a:xfrm>
          </p:grpSpPr>
          <p:sp>
            <p:nvSpPr>
              <p:cNvPr id="59" name=""/>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Arial"/>
                </a:endParaRPr>
              </a:p>
            </p:txBody>
          </p:sp>
          <p:sp>
            <p:nvSpPr>
              <p:cNvPr id="60" name=""/>
              <p:cNvSpPr/>
              <p:nvPr/>
            </p:nvSpPr>
            <p:spPr>
              <a:xfrm>
                <a:off x="0" y="3620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3505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2" name=""/>
              <p:cNvSpPr/>
              <p:nvPr/>
            </p:nvSpPr>
            <p:spPr>
              <a:xfrm flipV="1">
                <a:off x="0" y="3840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64" name=""/>
            <p:cNvSpPr/>
            <p:nvPr/>
          </p:nvSpPr>
          <p:spPr>
            <a:xfrm>
              <a:off x="3240" y="3886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PlaceHolder 4"/>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21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a:t>
            </a:r>
            <a:endParaRPr b="1" lang="en-US" sz="4400" spc="-1" strike="noStrike">
              <a:solidFill>
                <a:srgbClr val="1822cd"/>
              </a:solidFill>
              <a:latin typeface="Lucida Grande"/>
            </a:endParaRPr>
          </a:p>
        </p:txBody>
      </p:sp>
      <p:sp>
        <p:nvSpPr>
          <p:cNvPr id="111" name="PlaceHolder 2"/>
          <p:cNvSpPr>
            <a:spLocks noGrp="1"/>
          </p:cNvSpPr>
          <p:nvPr>
            <p:ph type="subTitle"/>
          </p:nvPr>
        </p:nvSpPr>
        <p:spPr>
          <a:xfrm>
            <a:off x="1371600" y="416088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edia</a:t>
            </a:r>
            <a:endParaRPr b="0" lang="en-US" sz="2800" spc="-1" strike="noStrike">
              <a:solidFill>
                <a:srgbClr val="000000"/>
              </a:solidFill>
              <a:latin typeface="Lucida Grande"/>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Media and leisure in German speaking countries </a:t>
            </a:r>
            <a:endParaRPr b="0" lang="en-US" sz="2800" spc="-1" strike="noStrike">
              <a:solidFill>
                <a:srgbClr val="000000"/>
              </a:solidFill>
              <a:latin typeface="Lucida Grande"/>
            </a:endParaRPr>
          </a:p>
        </p:txBody>
      </p:sp>
      <p:sp>
        <p:nvSpPr>
          <p:cNvPr id="112" name="Rectangle 4"/>
          <p:cNvSpPr/>
          <p:nvPr/>
        </p:nvSpPr>
        <p:spPr>
          <a:xfrm>
            <a:off x="682956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Bibliography</a:t>
            </a:r>
            <a:endParaRPr b="1" lang="en-US" sz="4400" spc="-1" strike="noStrike">
              <a:solidFill>
                <a:srgbClr val="1822cd"/>
              </a:solidFill>
              <a:latin typeface="Lucida Grande"/>
            </a:endParaRPr>
          </a:p>
        </p:txBody>
      </p:sp>
      <p:sp>
        <p:nvSpPr>
          <p:cNvPr id="133"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easyhiker.co.uk/scenic-hike-in-germany/</a:t>
            </a:r>
            <a:endParaRPr b="0" lang="en-US" sz="12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offtoeurope.com/wp-content/uploads/2012/02/hiking-in-bavaria-germany.jpg</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goethe.de/ges/mol/tre/pan/en5028597.htm</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via-alpina.org/en/page/487/hiking-in-germany</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goethe.de/ges/mol/tre/pan/en5028597.htm</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easyhiker.co.uk/why-go-hiking-in-germany/</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71600" y="1676520"/>
            <a:ext cx="6553080" cy="4365360"/>
          </a:xfrm>
          <a:prstGeom prst="rect">
            <a:avLst/>
          </a:prstGeom>
          <a:ln w="0">
            <a:noFill/>
          </a:ln>
        </p:spPr>
      </p:pic>
      <p:sp>
        <p:nvSpPr>
          <p:cNvPr id="135" name=""/>
          <p:cNvSpPr txBox="1"/>
          <p:nvPr/>
        </p:nvSpPr>
        <p:spPr>
          <a:xfrm>
            <a:off x="3505320" y="1752480"/>
            <a:ext cx="2336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Wandern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36" name=""/>
          <p:cNvSpPr/>
          <p:nvPr/>
        </p:nvSpPr>
        <p:spPr>
          <a:xfrm>
            <a:off x="2590920" y="38088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Wandern im Deutschland</a:t>
            </a:r>
            <a:endParaRPr b="0" lang="en-US" sz="2400" spc="-1" strike="noStrike">
              <a:solidFill>
                <a:srgbClr val="000000"/>
              </a:solidFill>
              <a:latin typeface="Arial"/>
            </a:endParaRPr>
          </a:p>
        </p:txBody>
      </p:sp>
      <p:sp>
        <p:nvSpPr>
          <p:cNvPr id="137" name=""/>
          <p:cNvSpPr/>
          <p:nvPr/>
        </p:nvSpPr>
        <p:spPr>
          <a:xfrm>
            <a:off x="1371600" y="6216480"/>
            <a:ext cx="683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ttp://www.bugbog.com/european_countries/germany_activities_guide.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rmans and Hiking</a:t>
            </a:r>
            <a:endParaRPr b="1" lang="en-US" sz="4400" spc="-1" strike="noStrike">
              <a:solidFill>
                <a:srgbClr val="1822cd"/>
              </a:solidFill>
              <a:latin typeface="Lucida Grande"/>
            </a:endParaRPr>
          </a:p>
        </p:txBody>
      </p:sp>
      <p:sp>
        <p:nvSpPr>
          <p:cNvPr id="11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iking is what a large number of the German population is seeking right now. It is a way of escaping the stress of the daily routine.</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For years, this activity was described as a gloomy hobby for elderly people. </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Since the 1990’s, hiking became extremely popular among Germans and now about 34 million people call themselves “hikers”</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Even though hiking is not an “adrenaline filled” activity, it is the perfect thing to do on your free time. Especially now when they have to do a lot of mental work. </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Also, many Germans practice hiking because it has a positive effect on human’s health, it strengths your heart, metabolism and breathing.</a:t>
            </a:r>
            <a:endParaRPr b="0" lang="en-US" sz="16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9" descr="2"/>
          <p:cNvPicPr/>
          <p:nvPr/>
        </p:nvPicPr>
        <p:blipFill>
          <a:blip r:embed="rId1"/>
          <a:stretch/>
        </p:blipFill>
        <p:spPr>
          <a:xfrm>
            <a:off x="1447920" y="1295280"/>
            <a:ext cx="6095880" cy="4052880"/>
          </a:xfrm>
          <a:prstGeom prst="rect">
            <a:avLst/>
          </a:prstGeom>
          <a:ln w="0">
            <a:noFill/>
          </a:ln>
        </p:spPr>
      </p:pic>
      <p:sp>
        <p:nvSpPr>
          <p:cNvPr id="116" name="Text Box 10"/>
          <p:cNvSpPr/>
          <p:nvPr/>
        </p:nvSpPr>
        <p:spPr>
          <a:xfrm>
            <a:off x="2202480" y="5943600"/>
            <a:ext cx="442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goethe.de/ges/mol/tre/pan/en5028597.htm</a:t>
            </a:r>
            <a:endParaRPr b="0" lang="en-US" sz="1400" spc="-1" strike="noStrike">
              <a:solidFill>
                <a:srgbClr val="000000"/>
              </a:solidFill>
              <a:latin typeface="Arial"/>
            </a:endParaRPr>
          </a:p>
        </p:txBody>
      </p:sp>
      <p:sp>
        <p:nvSpPr>
          <p:cNvPr id="117" name=""/>
          <p:cNvSpPr/>
          <p:nvPr/>
        </p:nvSpPr>
        <p:spPr>
          <a:xfrm>
            <a:off x="2824560" y="228600"/>
            <a:ext cx="27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iking in The Alp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 in Germany</a:t>
            </a:r>
            <a:endParaRPr b="1" lang="en-US" sz="4400" spc="-1" strike="noStrike">
              <a:solidFill>
                <a:srgbClr val="1822cd"/>
              </a:solidFill>
              <a:latin typeface="Lucida Grande"/>
            </a:endParaRPr>
          </a:p>
        </p:txBody>
      </p:sp>
      <p:sp>
        <p:nvSpPr>
          <p:cNvPr id="11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Bavaria is the only state in Germany that shares a part of The Alps. </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 last Ice Age left the place full of lakes and moors. At the southeastern side, enormous mountains surround the place.</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iking for Germans has become more like an obsession. So going to a nice, near place where they can hike is perfect and that’s why they have the mountain range in Bavaria.</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 impressive Watzmann in Berchtesgaden or the Zugspitze in the district of Garmisch-Partenkirchen, which with 2,962 m represents the highest peak in Bavaria and Germany.</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Along the 660 kilometers of hiking trail, one can find </a:t>
            </a:r>
            <a:r>
              <a:rPr b="1" lang="en-US" sz="1600" spc="-1" strike="noStrike">
                <a:solidFill>
                  <a:srgbClr val="000000"/>
                </a:solidFill>
                <a:latin typeface="Lucida Grande"/>
              </a:rPr>
              <a:t>hotel accommodations and restaurants</a:t>
            </a:r>
            <a:r>
              <a:rPr b="0" lang="en-US" sz="1600" spc="-1" strike="noStrike">
                <a:solidFill>
                  <a:srgbClr val="000000"/>
                </a:solidFill>
                <a:latin typeface="Lucida Grande"/>
              </a:rPr>
              <a:t>, that offers Bavarian lunch and other accomodations perfect for easy hiking.</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 Trail in Bavaria</a:t>
            </a:r>
            <a:endParaRPr b="1" lang="en-US" sz="4400" spc="-1" strike="noStrike">
              <a:solidFill>
                <a:srgbClr val="1822cd"/>
              </a:solidFill>
              <a:latin typeface="Lucida Grande"/>
            </a:endParaRPr>
          </a:p>
        </p:txBody>
      </p:sp>
      <p:pic>
        <p:nvPicPr>
          <p:cNvPr id="121" name="Picture 5" descr="hiking-in-bavaria-germany"/>
          <p:cNvPicPr/>
          <p:nvPr/>
        </p:nvPicPr>
        <p:blipFill>
          <a:blip r:embed="rId1"/>
          <a:stretch/>
        </p:blipFill>
        <p:spPr>
          <a:xfrm>
            <a:off x="1752480" y="1905120"/>
            <a:ext cx="5410440" cy="3619440"/>
          </a:xfrm>
          <a:prstGeom prst="rect">
            <a:avLst/>
          </a:prstGeom>
          <a:ln w="0">
            <a:noFill/>
          </a:ln>
        </p:spPr>
      </p:pic>
      <p:sp>
        <p:nvSpPr>
          <p:cNvPr id="122" name="Text Box 6"/>
          <p:cNvSpPr/>
          <p:nvPr/>
        </p:nvSpPr>
        <p:spPr>
          <a:xfrm>
            <a:off x="533520" y="5562720"/>
            <a:ext cx="7467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offtoeurope.com/wp-content/uploads/2012/02/hiking-in-bavaria-germany.jp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rman Hiking Places</a:t>
            </a:r>
            <a:endParaRPr b="1" lang="en-US" sz="4400" spc="-1" strike="noStrike">
              <a:solidFill>
                <a:srgbClr val="1822cd"/>
              </a:solidFill>
              <a:latin typeface="Lucida Grande"/>
            </a:endParaRPr>
          </a:p>
        </p:txBody>
      </p:sp>
      <p:sp>
        <p:nvSpPr>
          <p:cNvPr id="12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 hiking trails are incredibly organized. They have logos everywhere marking where you’re at and they are divided into small sections between ten and fifteen miles that take you to one country town to another.</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 villages and country towns are great places where people tend to “easy hike”. They have beautiful sights and many places to rest when hiking.</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y’s natural trails are not bad either, for example they have lakes, rock formation, valleys, forests and meadows that are used for hiking. </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 Alps are one of the best places for hiking in Europe and gladly, a part of the Alps is located in Germany</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y is also a safe and accessible place for hiking. There is no dangerous wildlife. Also, hiking trails are easily accessible by public transportation.</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 Trails in Germany</a:t>
            </a:r>
            <a:endParaRPr b="1" lang="en-US" sz="4400" spc="-1" strike="noStrike">
              <a:solidFill>
                <a:srgbClr val="1822cd"/>
              </a:solidFill>
              <a:latin typeface="Lucida Grande"/>
            </a:endParaRPr>
          </a:p>
        </p:txBody>
      </p:sp>
      <p:pic>
        <p:nvPicPr>
          <p:cNvPr id="126" name="" descr=""/>
          <p:cNvPicPr/>
          <p:nvPr/>
        </p:nvPicPr>
        <p:blipFill>
          <a:blip r:embed="rId1"/>
          <a:stretch/>
        </p:blipFill>
        <p:spPr>
          <a:xfrm>
            <a:off x="2133720" y="1981080"/>
            <a:ext cx="5562360" cy="3811680"/>
          </a:xfrm>
          <a:prstGeom prst="rect">
            <a:avLst/>
          </a:prstGeom>
          <a:ln w="0">
            <a:noFill/>
          </a:ln>
        </p:spPr>
      </p:pic>
      <p:sp>
        <p:nvSpPr>
          <p:cNvPr id="127" name=""/>
          <p:cNvSpPr/>
          <p:nvPr/>
        </p:nvSpPr>
        <p:spPr>
          <a:xfrm>
            <a:off x="3045600" y="5867280"/>
            <a:ext cx="328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asyhiker.co.uk/scenic-hike-in-germany/</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Questions</a:t>
            </a:r>
            <a:endParaRPr b="1" lang="en-US" sz="4400" spc="-1" strike="noStrike">
              <a:solidFill>
                <a:srgbClr val="1822cd"/>
              </a:solidFill>
              <a:latin typeface="Lucida Grande"/>
            </a:endParaRPr>
          </a:p>
        </p:txBody>
      </p:sp>
      <p:sp>
        <p:nvSpPr>
          <p:cNvPr id="12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How many Germans call themselves “hikers: since the 1990’s?</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4 million</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3 thousand</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9 million</a:t>
            </a: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at mountain range is located in Bavaria?</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e Appalachian </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e Alps</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Mt. Everest</a:t>
            </a: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nswers</a:t>
            </a:r>
            <a:endParaRPr b="1" lang="en-US" sz="4400" spc="-1" strike="noStrike">
              <a:solidFill>
                <a:srgbClr val="1822cd"/>
              </a:solidFill>
              <a:latin typeface="Lucida Grande"/>
            </a:endParaRPr>
          </a:p>
        </p:txBody>
      </p:sp>
      <p:sp>
        <p:nvSpPr>
          <p:cNvPr id="131"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 34 million</a:t>
            </a: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2- The Alps</a:t>
            </a:r>
            <a:endParaRPr b="0" lang="en-US" sz="32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ia Luisa Hernandez-Ron</cp:lastModifiedBy>
  <dcterms:modified xsi:type="dcterms:W3CDTF">2012-08-23T23:49:16Z</dcterms:modified>
  <cp:revision>1</cp:revision>
  <dc:subject/>
  <dc:title>Hiking</dc:title>
</cp:coreProperties>
</file>